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4 videos, each are about 2 minutes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a group of 3, then C &amp; D could be combined… Part C has lots of ch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 Create a graph, symbol, picture, word splash, poem, etc. that demonstrates the key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B1C9-E02B-4D9E-8DCB-A3DD6320F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17E2-93BA-4A14-9913-06D296DAE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AAF1-5C88-41C6-87A3-E6DDD0F66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F7BB-7F50-4041-AD92-C9A10C1A58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3CFD-C3E9-4A76-86EB-0A1CC29538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B0AF-2DD6-48DB-8C23-2948BC535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A042-3F4A-40F8-84D8-ACDE6F37A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EC27-9570-46EF-8B50-5B932D7CC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D2B5-D6DF-42CA-9827-34471D003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31C2-FB05-40BE-B32A-0A2627613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F190-CC8D-4EA9-B087-03E1BAD8C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2122-DF9B-4795-A4A6-B32FC099E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4AED-4D8A-43D8-BB61-62E21B9F45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CE68-589E-4E64-9184-70168ADC25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 Breakou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Kempenf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to Video ~20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you respond effectively to this pair of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your suggested respons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FB42-B729-4E59-A52F-39B5145ECA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ponding with Time ~1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samples of studen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how you will respond to this small group of students during tomorrow’s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hematics will you focus o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you s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(s) will you as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one representative sample to share with the whole gro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DCB9-9A0C-4F59-8BE3-915AA3D9EF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with Time ~15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resentative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 of your response to this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C8D7-F936-4AC4-9272-D6C9FDAC69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se groups of students are in the same class.  Now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manage differentiated responses to the individuals and small groups in our class who have different learning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FBB3-C2A4-4B18-A615-AA437B9F9C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29000" y="160020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feel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135A-1E67-465E-961F-DDC10D094E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Z:\Clip Art\Road Signs\Traffic Signals\Signal 54.wmf"/>
          <p:cNvPicPr/>
          <p:nvPr/>
        </p:nvPicPr>
        <p:blipFill>
          <a:blip r:embed="rId1"/>
          <a:stretch/>
        </p:blipFill>
        <p:spPr>
          <a:xfrm>
            <a:off x="401760" y="1447920"/>
            <a:ext cx="144756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oday’s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38D2-DBDE-4FDE-892E-A2FFFF0881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Z:\Clip Art\Travel &amp; Leisure\Vacations (F - Q)\Map.wmf"/>
          <p:cNvPicPr/>
          <p:nvPr/>
        </p:nvPicPr>
        <p:blipFill>
          <a:blip r:embed="rId1"/>
          <a:stretch/>
        </p:blipFill>
        <p:spPr>
          <a:xfrm>
            <a:off x="6553080" y="1951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Z:\Clip Art\Travel &amp; Leisure\Vacations (F - Q)\Passport 1.wmf"/>
          <p:cNvPicPr/>
          <p:nvPr/>
        </p:nvPicPr>
        <p:blipFill>
          <a:blip r:embed="rId2"/>
          <a:stretch/>
        </p:blipFill>
        <p:spPr>
          <a:xfrm rot="21444000">
            <a:off x="7997400" y="510840"/>
            <a:ext cx="83844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ca9"/>
                </a:solidFill>
                <a:latin typeface="Arial"/>
              </a:rPr>
              <a:t>Proportional Reasoning ~ Breakout #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characteristics of effec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and extend personal repertoire of question stems to be used when responding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23C4-91E8-42A3-8E86-4ACC0A5ECC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EA37-F3AA-44C9-A6EC-717648B8BB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ca9"/>
                </a:solidFill>
                <a:latin typeface="Arial"/>
              </a:rPr>
              <a:t>Proportional Reasoning ~ Breakout #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2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 and extend personal repertoire of strategies for responding to groups of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strategies that facilitate multiple responses within a singl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athematical thinking in a range of responses to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2358-2A88-437F-8AA2-F893BB6844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B108-1A10-4B7D-9E84-4DFBDECAE3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686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</a:t>
            </a:r>
            <a:r>
              <a:rPr b="0" lang="en-US" sz="3600" spc="-1" strike="noStrike">
                <a:solidFill>
                  <a:srgbClr val="92d050"/>
                </a:solidFill>
                <a:latin typeface="Arial"/>
              </a:rPr>
              <a:t>Think/Pair/Share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77c29"/>
                </a:solidFill>
                <a:latin typeface="Arial"/>
              </a:rPr>
              <a:t>~ 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time when you received feedback that really helped you 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feedback look like?  Feel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de it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C803-2783-4182-B311-E47C034886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Z:\Clip Art\Sports\Cartoons (A - Ba)\Baseball - Coach 3.wmf"/>
          <p:cNvPicPr/>
          <p:nvPr/>
        </p:nvPicPr>
        <p:blipFill>
          <a:blip r:embed="rId1"/>
          <a:stretch/>
        </p:blipFill>
        <p:spPr>
          <a:xfrm>
            <a:off x="6248520" y="4419720"/>
            <a:ext cx="274608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</a:t>
            </a:r>
            <a:r>
              <a:rPr b="0" lang="en-US" sz="3600" spc="-1" strike="noStrike">
                <a:solidFill>
                  <a:srgbClr val="92d050"/>
                </a:solidFill>
                <a:latin typeface="Arial"/>
              </a:rPr>
              <a:t>Self Assessment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77c29"/>
                </a:solidFill>
                <a:latin typeface="Arial"/>
              </a:rPr>
              <a:t>~ 1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3EFF-7AFA-4A65-B538-FAB56EFE13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81040" y="1143000"/>
            <a:ext cx="7572240" cy="430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0" y="1143000"/>
            <a:ext cx="92880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8229600" y="1218960"/>
            <a:ext cx="62244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Create a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a group of 4 people based on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o is A, B, C, and D based on years of teaching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– least hair  through to D - most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6C39-B62A-495E-AADE-39D0054A01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Z:\Clip Art\Clothing &amp; Accessories\Glasses\Eyeglasses 16.wmf"/>
          <p:cNvPicPr/>
          <p:nvPr/>
        </p:nvPicPr>
        <p:blipFill>
          <a:blip r:embed="rId1"/>
          <a:stretch/>
        </p:blipFill>
        <p:spPr>
          <a:xfrm>
            <a:off x="1371600" y="2743200"/>
            <a:ext cx="1266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Z:\Clip Art\Cartoons\Make Your Own! (A - Ha)\Ear 6.wmf"/>
          <p:cNvPicPr/>
          <p:nvPr/>
        </p:nvPicPr>
        <p:blipFill>
          <a:blip r:embed="rId2"/>
          <a:stretch/>
        </p:blipFill>
        <p:spPr>
          <a:xfrm>
            <a:off x="6858000" y="2292480"/>
            <a:ext cx="581040" cy="144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Z:\Clip Art\People\Cartoons (Ma - Ma) 1\Man Running 02.wmf"/>
          <p:cNvPicPr/>
          <p:nvPr/>
        </p:nvPicPr>
        <p:blipFill>
          <a:blip r:embed="rId3"/>
          <a:stretch/>
        </p:blipFill>
        <p:spPr>
          <a:xfrm>
            <a:off x="4038480" y="2666880"/>
            <a:ext cx="116856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6640" y="228600"/>
            <a:ext cx="6319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earch Article ~10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318744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Highl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Feedback as Part of Formative Assessment (pp 1-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~ What the Research Shows (pp 3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~ Feedback Strategies and Content (pp 4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~ Feedback and Grading (pp 7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6F98-2721-432F-974E-4C49C3059E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1685880" cy="1884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233280" y="23763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Susan Brook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 Callout 4"/>
          <p:cNvSpPr/>
          <p:nvPr/>
        </p:nvSpPr>
        <p:spPr>
          <a:xfrm>
            <a:off x="4495680" y="1676520"/>
            <a:ext cx="4496040" cy="1511280"/>
          </a:xfrm>
          <a:prstGeom prst="cloudCallout">
            <a:avLst>
              <a:gd name="adj1" fmla="val -47884"/>
              <a:gd name="adj2" fmla="val 46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characteristics of effective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are and Summarize ~1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what you read using a Round Robin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key characteristics of effec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ish to choose a product that aligns with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product with the larg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9BAA-B3D7-415B-8D4C-4DBC5B69C4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Responding to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9 students are responding to this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called A is 20% of a number called B. But A is 40% of 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B and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7341-0CCA-4165-9CEB-E041301542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11T00:12:44Z</dcterms:modified>
  <cp:revision>25</cp:revision>
  <dc:subject/>
  <dc:title>&lt;Title&gt;</dc:title>
</cp:coreProperties>
</file>